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245-37DB-43A3-A025-C65C13A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3F5-D1B7-427B-9D69-F4C08B3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3138F-990B-432B-B607-E28B3B0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A47F-5DA7-4108-BF85-40813A0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456B-A7E3-40A9-8BAF-542E79F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9E7C-2393-4B1A-AD6C-0B1E593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50B42-E51F-4AA9-B8B8-FBC2432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B8AAB-C077-4E07-A781-22B3D4D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F2FC-16A9-4C3D-AD49-CC2A0F6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76E99-9F68-4DA7-9D04-506763E6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B1021-3DD9-4810-8A56-BEB7F3D8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37F18-9687-4CA6-BFF9-8C1599E5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C3D-5F70-489E-ADD9-A1ED1C47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8D891-4D50-4872-8EE6-8D0FE8AD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8ADA2-5BF6-4F6B-8D6C-0181DF45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53B90-2783-4AFC-95FC-5A3EAFE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5D771-7F0B-44DE-8D0C-C51E2C7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CA16E-538F-46E0-8CE1-EFD03A16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6B7F5-7C54-45CE-9A36-04E6A68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B96E4-59EE-47CB-9A6E-60330B6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03DB2-695A-4A26-81B0-C47527A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2CA38-3910-43AF-8910-EA78F47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BBE7-C002-499A-8915-91C9DD6D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B51-6AFD-4076-B35B-03FDBB69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BCBD8-4AC3-458E-A6BF-EA3C1B93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0C2D-E35D-412D-B1A2-5A21C3DC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1C77-9121-4970-B304-733A59D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4AAC-4888-47B3-B10C-6344656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D3D9-4489-438C-87F5-6EE88C0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57AF-AC8D-4E58-A347-CE8C0E7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F363-5E9D-4424-83EE-56C1058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C34F6-FE01-4EDC-B379-EFBB651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1F4D3-7140-4FDE-9FE2-0D5D67B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0CCA9-7D46-4228-B625-B27899C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CF5-D9E2-4D12-B37E-CFB8B52C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8D8E2-7EA8-4191-B76E-4E0BB0A9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72F5C-F542-4610-B78A-A14C4318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9D87D-8472-4C7C-81FA-2E0E43B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293F-0037-4BE4-838A-6F5E4F65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3118C-AD7D-46CB-8FE3-BF65B3F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FE6CF-95A2-464E-BF27-12AEC212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9CF34-8F63-4EC2-B33C-B8375ECC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D3CF6-60E6-44DB-9A37-ABAAA578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EEFF5-B7B8-41D1-99F8-133D326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6292-0B40-4796-B2AB-10705F0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022-3EE7-4482-8EE5-6D7F850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A94D-5F05-4641-B426-CF3542F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C694B-CFAC-4AEC-BE99-9DAFF35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79297-E2F9-43C8-8A75-1405B04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80D61-14FD-46E8-8D93-9DE4547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B1614-AEF3-4104-819D-A8C8BDF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BFD9C-2051-4030-95E5-40FB76D9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01ACC-3446-4F96-942F-DC1457A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F7BE3-84BA-4665-86E9-BBE9A9B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5C884-920C-454D-90E1-CEEC47B1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13C06-8A77-40E4-9B25-1B6C0451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962-C3B4-46B2-B96E-7EEC303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EA05B-3DC4-4A07-8C08-C0465F35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E1F0C-ACBA-4A8A-B198-3EBDC25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E1049-B41D-40AB-959D-7C8C7D6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7A526-6A7C-4901-97EA-9D10C4D4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FA6DA-F542-44BD-9560-7FE41591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083FD-6B63-4449-BA89-1C40AB22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ABE47-2F1D-4979-8108-9152D637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B59A4-E57B-4CC6-93E1-2D4603CA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902FC-3906-4165-B6D5-53992014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0D0BB-8758-42F6-8EDB-B526405F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1BA4-67E3-4554-A851-70E1F3A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1706F-3972-4FC5-9726-C6ED3C17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16220-689A-4BE1-B6A7-9E5E224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AFAE7-340A-48AA-A1D6-2531EC8E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086D8-783A-42D7-84E5-3C5570A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743AE-2613-466E-8271-FF0AC49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6C39E-FCDA-4C1A-B0B8-ED114D2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BDE42-2DB0-495F-A5DF-2299416A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F81C5-D07E-4601-A7CC-F28BE176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5A40B-7A0F-4302-8BAA-06EAA96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949F4-A095-422B-B423-F684FB75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874-BB3C-4EA8-8D47-8ED24820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D16CF-8934-455A-98B0-67510483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47570-4598-416E-A67C-85E43C3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EE9C8-3C90-4B94-8274-466EE3B6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5A070-7E47-450B-85E3-EC4366C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70E65-571D-477D-8DB5-CC31958B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36805-51C0-450F-8ECD-5ACEF45B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1622F-341D-4BFE-A11A-24D5559C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A7BE4-3E19-4150-B2E2-0B6D5E1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98918-6035-4806-B85A-C5FEFFB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4EDAD-440D-4E95-9B43-FE08F489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1FB1-2591-4451-960E-E152692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5EE28-536E-4A8B-9F24-0017FC7B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01F61-644E-4842-8143-B8B02F63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27DCE-E9C6-4215-B06C-E9EF410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D2612-F7A4-4CAE-B141-08FCC664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92A82-11AB-43E4-96E2-C619D9C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1AB6C-6ACF-4DD9-B402-5EAD9A8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87919-2576-4685-BE7C-BD87013E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0D7BC-3E00-43B4-B6F3-39268FE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3EFC4-A97F-4893-AB33-FE41165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6DC0B-AC1B-4345-9463-759FCCA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DCF-6E14-41CB-8727-6045981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74ECB-1B8B-4074-8665-A1FF75E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DF632-49E1-436B-850B-C10560C6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DFE44-9428-490D-B7A3-D67D6A1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893DF-AA12-441F-9D33-76FA2F13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CF31E-C192-4FC3-99EE-07056AD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08622-389D-4C10-AF17-57004FA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2A1F2-4930-4F05-AA25-DD5E71A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85468-45EE-4F1B-971D-1C510DAD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55110-9BA0-4E30-AC62-1B4E52C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6D98A-E5FF-4E39-AFDE-68810E7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555-7AE4-4149-8701-CD8E0F18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77C7-B67C-4510-85AA-E27D702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CF148-E581-4917-A9A5-075FDDC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DDFBC-EF1D-46E4-841E-8D35EF6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88EEB-E8A2-4C02-A745-91DEAD54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25632-994C-4FB6-877F-2C70418F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9B4DD-EFD8-43C0-BCBB-F780AA9D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76F80-820E-4A58-A54B-A7128F23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5D745-6775-4E4C-92EB-C5AF7A10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8BC76-CD51-4D95-9EC8-E23F1EE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D32AA-D0F1-4C79-9354-D4B21DB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E0857-58C8-46F8-9DEB-082F862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A18A-B53D-4E42-A221-F1EFEF4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764FB-C9AA-4493-ADBE-32132C8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1D254-63A5-4683-8F31-21E1F46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B69CD-05B4-44C1-BE14-1C8F621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FC012-98E6-468C-9E5C-C58330B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5B9B0-16F2-4812-BB34-46518B89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13C4F-9234-42F0-B410-B12D19D9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4FA10-8FA4-4722-99C8-DE895ABA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49AB8-7967-42CE-AD87-F6938858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0A3E4-4FBB-4D58-B80C-A5E5ADC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A78B7-C3ED-44ED-B0A6-E3CAEBD8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CC2-4154-43CA-90E6-AE35E64D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CFE48-B48E-4B09-8E8D-F10A60AD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7D65C-2EC2-45A3-8BA4-6DC2AF1A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16248-2980-447B-B4C2-3E74D8E9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73EE3-2890-4B39-8EA9-99FAE98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F1943-8DF7-46F1-8E6F-B608EF3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AF0C4-5E25-4536-A148-2CE6EB3E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6AC18-C067-4064-8A4F-DB6F7B3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2DE8D-893D-40AD-A6E1-7D70D46E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A4A33-F16C-45C4-B305-59205D94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799EF-EDE6-4938-BE1F-F6EB7BCA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2731-E99F-4D3C-93BE-F0DEF01C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DD9B1-67E6-4F5A-87E4-15AF79A2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53604-5931-4985-957E-4C8F334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51E6C-74EE-4BFB-B0B0-80D06C6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65C1E-40E8-48D4-A91A-57FEAB8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FCE33E-4718-482D-A283-E80A7C2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80F6C-1EBE-4C38-A945-76C9CA1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29F2E-098F-48BC-97C2-7FF3C38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50958-122B-402E-9D5D-C2050C5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60A45-18EF-45BB-BF67-419CD6F2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79E434-6A5D-4A02-9A5B-A8E376A4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06B-A602-47DE-B4CC-4A943DFB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57D94-9F3A-4897-81E4-711E2509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B3909-D64D-4D5E-97D2-32E30E31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23BFF-F585-40F3-8F66-B453477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6B1C5-7DAC-4622-8777-F769E39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9BE8F-68B4-4E7D-8BB1-7474830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FC678-B5D9-4E1D-8B46-07115D7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AE934-AD1F-4736-8177-9B377AD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14C46-E5FA-4BBE-9A0E-BFEBF0C4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85CE0-32D8-48E9-A344-A653BBB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3889C-3C5C-49A6-8575-B39ACAE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5860-1B0F-4D55-8DF2-2D2CBBD2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0AE6D-9130-416D-97D4-5A7EA62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02E17-168D-4A2F-B644-E004F03C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56100-0AC0-45E9-9EF3-597D041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5D1E-D7CF-4B2C-B77F-3124873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8197-36F5-4C5B-8E54-E046BF0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275E-5063-4ED0-8CA6-2974664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B895-88EF-4B74-B5A8-0C482B7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5E5-834C-403A-8EB8-1F8081C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9541-2A6F-4C79-B07E-9747F456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BCBF-4EA4-4A17-A878-79B198B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0660-AE0D-4223-A749-01D468F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0579-24F4-4DA3-83A3-6325354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47AD-9B33-4BE5-A415-F1AA60D5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EB30-6F79-4000-8983-AA00C6CB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B746-83C9-4031-9760-A97DE9BE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2D2E-9779-4662-9C07-B57585C5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5F69-831F-4E38-BBE1-C68B83C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BAFD-089D-420F-95F0-5924C21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6FA-499D-4CEE-ADD4-5B57EA9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2BAF0-21B9-4ECA-8184-44F9332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7751-0F7B-4CDE-A570-9EC4636B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BB16-E2F1-45A7-B4DB-FE612588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ECBB-E61C-4F85-B795-B78EBEA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6024-5072-4E5A-BB83-873711D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EF7F-1501-4529-8DC3-A2041BB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1933-252D-49A8-901B-DC436CE5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6B9D-F046-4CB0-A6BA-0F5F868D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F771-DE5D-4ABF-9655-873C112E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0955-A8FD-47AB-8EAE-D0E2B45B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6CB-8EBD-4135-8404-2915B698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60EB-5AE1-4FD3-B543-FFB80E08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200F-8A81-4E18-880B-81F7646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9354-BFA1-4F09-B897-CA12ED1F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1E81-B85C-478C-91B2-8BA130FA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D9A4-D390-4620-8A3B-AB5B92AB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F3D3-1AFA-46B5-8082-27586A5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FE2E-707E-493B-B27D-98C8569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551A-3428-471F-AD98-02E2F75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DC68-A340-4D9E-B34A-C4AEE23E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3217-48E0-4B00-B596-D66D25DB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330-17A0-46BB-9C54-FE33096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054F-E571-4EC7-A419-A11B899A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AE1D-8E36-410F-8675-9FC39074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628F-A7DB-4B4F-A5C0-A42639D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7B5F-245C-41DA-B582-C4AF94B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6CE3-245F-4706-B448-5504227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B437-158E-4E7E-9340-6D1B5589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A316-DD96-482E-9B21-014F2580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56A0-CB4B-46E1-B2AD-E951730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0B47-2C5D-47A4-9516-3205D0B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D476-AB14-4D23-BAFE-A5CAB2C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F33-6B9A-4C70-924A-230D289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7D7DF-C1EC-4A30-AD7B-DBA0DB0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ECDE-4437-46AE-ABFD-33E3F9A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EAF4-22E2-41B3-9F1A-4570AAAA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69C6-7A86-47D4-9857-78F34385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C0D4-4EA9-4534-8CAF-729205D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8450-E63C-4D9B-B8F1-2706BD37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4DBF-EF01-4DDD-A6E1-06A63D6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7171-3DD6-465A-BF4D-9048F4A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7E659-40C0-4035-ACFF-0DC648A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EF34-7E5E-41F5-B9C2-5CA13C8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C53-C51B-4125-8D9E-E4B1A35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C9C1-1648-4916-928A-84DD18D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F8A1C-BC4D-4914-B368-D5E62FC9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08E9-7B87-444A-A17B-833727D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7E60-4801-4A22-A8C6-316CE499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B81F4-4E83-4B32-908F-F62A54C5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CB46D-DF71-4E83-BC35-E94BF066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2D0B-CCBF-4A64-971F-5D99AC3C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3DD5B-D2C9-4910-BC81-9F0B233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AF98A-A73C-4F3E-BDFB-9FB6DD9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53BEB-B2E1-4064-94F0-04E327E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848-9225-48C1-9E49-341C798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89D1-BD4E-4453-A590-A6FEFDE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4494-FF92-4724-9880-76E5386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9AF0-1C6C-44DD-B870-26A4618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794F-A988-4AC0-9072-5100934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41BA-7E65-437A-9D7F-BB31367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4137-E112-4D32-8BCC-2DFD14A1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24B8-D0AD-401C-8082-4D193A5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17484-08FC-4113-B7E5-DDC609A7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F0A75-2E12-4E50-9C9E-FC6C6D4D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8ED6-2CDC-4F15-9A6C-9C2B3D52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D1F-597F-45CA-95F7-5AD3F8AD9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CD3-35E0-47DB-8A7E-B68BFA2DC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6B5A-7DE8-48C1-BA13-18C4F06E9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5E1-F4CA-4652-9782-B4FE99D0B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A4F-E2D5-4AEB-AD47-46E6A97BB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5F7-4109-4FD6-A566-9CB0CD8B6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FDA-EEB5-4C89-8BCF-65E90FCE3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389-9E4D-46FC-AFD5-9F407313C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0BED-C153-4189-9124-562C39BEE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32E2-54D3-4EEB-A1A1-27705D1F1C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37C0-93C6-4934-87DB-A947904D62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635-71B0-4538-9274-17D57F800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B8C9-AB6E-4ACA-9987-C7B7DC9C8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192-1FAB-433B-A2DE-680658F2C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95F-0B3A-4A28-9BA2-60DD908B0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12E9-DEE3-4D1C-956A-240EE6855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A48-D700-4ABD-A9C5-CF81B5CC0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F3D1-0D4D-4533-B38F-B78618C29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53F4-8FDF-4FC6-8F2B-DCFA249FC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7FD9-1693-40D5-8E55-C33674052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ACF8-8DF8-4316-856D-746B6F525E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E214-324E-48F3-9259-8D6C0D78B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DE2-FBDC-4B3C-B8EA-98179A1C3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94A0-A1C1-4477-AFDF-EB7F1F990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9038-3994-49FA-8A8D-6C97CBD06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903-B79C-4EF8-AAF6-2D9C1900E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BA3-170C-4E32-969F-8C8FC075B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3C7-92DE-4FDC-B5C6-ABC616EFB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054-1732-4E7A-B101-527181FD7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8661-D269-45BC-88AC-6392FFEF7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703-9238-4218-AFCB-A1D724CA3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1E51-7D02-47C8-A973-D4423786D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EEB-0FF6-457C-ABA6-11AA96880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94A-65FF-4EE9-8C66-F6482045D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C230-91C4-424E-A2F9-DDF7CE019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48BA-E73C-4D54-A795-B1E0FE5BF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A367-FF91-4083-B6BF-C0BD7AD66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6FF2-FD30-4EE0-B94C-6BA298077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4F5-69C2-4122-9E62-EACF4B2D4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1BA-83E1-4375-B2AF-449FE9B0B7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09760" y="2981160"/>
            <a:ext cx="45244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14480" y="128124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114480" y="2492280"/>
            <a:ext cx="8889840" cy="3754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71280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97964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354960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01984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32952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101080" y="19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98480" y="2867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26920" y="35733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826920" y="427824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826920" y="49417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826920" y="566100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90360" y="2424240"/>
            <a:ext cx="8961480" cy="2009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244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7164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119240" y="2152800"/>
            <a:ext cx="6905520" cy="2552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2124000" y="4321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419640" y="433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4716360" y="4335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6012000" y="433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7308720" y="4336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5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